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whoosh.wav" ContentType="audio/x-wav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78294-DF63-4889-BEC3-AE1C76D9E2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 of Light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bsorption by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ing light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trometer is used to measure the amount of absorption at each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ion spectrum shows the rate of photosynthesis at different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A and B absorb light mostly in the red and blue regions of the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otene and xanthophyll absorb light from other regions and pass the energy to chlorophy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low light intens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ophyll C instead of chlorophyll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very wide absorption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bsorbs light in parts of the spectrum where chlorophyll is less effic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chlorophyll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seaw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shallow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have fucoxan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not have phycoerythr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64B4-756F-4D12-B317-712F3E903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708F-67F6-48EB-999A-1DC691F2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1987-AA1B-4DA4-A8BA-85900F26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8310-595B-484E-9B92-F85B2DF8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2E4-58CB-4F7C-BEC8-0FE6BAC3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B69-B791-4500-B4F9-F0954357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5AE0-EF2C-463B-A9B9-00E7D039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1DB4-A044-4BD4-AA9A-1B093DC0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736-EA08-4FA0-AE1A-0469DB00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3710-00AF-49E2-A801-6EAF60F3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40D-FA1C-4B8F-BF4C-B5938E3D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8164-65A3-49EE-84E1-DFEFF121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C4C38-7DF9-4C13-B7D2-A5CEF97E2B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bsorption of Light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Light absorption by chlorophy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06test_wavelength"/>
          <p:cNvPicPr/>
          <p:nvPr/>
        </p:nvPicPr>
        <p:blipFill>
          <a:blip r:embed="rId1"/>
          <a:stretch/>
        </p:blipFill>
        <p:spPr>
          <a:xfrm>
            <a:off x="380880" y="1981080"/>
            <a:ext cx="8763120" cy="47386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easuring light 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pectrometer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used to measure the amount of absorption at each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ction spectrum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shows the rate of photosynthesis at different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fig5"/>
          <p:cNvPicPr/>
          <p:nvPr/>
        </p:nvPicPr>
        <p:blipFill>
          <a:blip r:embed="rId1"/>
          <a:stretch/>
        </p:blipFill>
        <p:spPr>
          <a:xfrm>
            <a:off x="0" y="0"/>
            <a:ext cx="51451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5486400" y="533520"/>
            <a:ext cx="3276720" cy="45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hlorophyll A and B absorb light mostly in the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red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blu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gions of the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arotene and xanthophyll absorb light from other regions and pass the energy to chlorophy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row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bjected to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ow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light intens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lorophyll C instead of chlorophyll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ery wide absorption spect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absorbs light in parts of the spectrum where chlorophyll is less effic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d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ve chlorophyll 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7" descr="red seaweed"/>
          <p:cNvPicPr/>
          <p:nvPr/>
        </p:nvPicPr>
        <p:blipFill>
          <a:blip r:embed="rId1"/>
          <a:stretch/>
        </p:blipFill>
        <p:spPr>
          <a:xfrm>
            <a:off x="533520" y="3276720"/>
            <a:ext cx="2865240" cy="3581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55071581"/>
          <p:cNvPicPr/>
          <p:nvPr/>
        </p:nvPicPr>
        <p:blipFill>
          <a:blip r:embed="rId2"/>
          <a:stretch/>
        </p:blipFill>
        <p:spPr>
          <a:xfrm>
            <a:off x="6116760" y="3355920"/>
            <a:ext cx="3027240" cy="35020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een seawee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Found in shallow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 not have fucoxanth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oes not have phycoerythr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5" descr="15021526"/>
          <p:cNvPicPr/>
          <p:nvPr/>
        </p:nvPicPr>
        <p:blipFill>
          <a:blip r:embed="rId1"/>
          <a:stretch/>
        </p:blipFill>
        <p:spPr>
          <a:xfrm>
            <a:off x="4697280" y="2133720"/>
            <a:ext cx="4446720" cy="472428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hloroplast"/>
          <p:cNvPicPr/>
          <p:nvPr/>
        </p:nvPicPr>
        <p:blipFill>
          <a:blip r:embed="rId1"/>
          <a:stretch/>
        </p:blipFill>
        <p:spPr>
          <a:xfrm>
            <a:off x="838080" y="0"/>
            <a:ext cx="7239240" cy="67532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1219320" y="2743200"/>
            <a:ext cx="10666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11:56:35Z</dcterms:created>
  <dc:creator>hhashmi</dc:creator>
  <dc:description/>
  <dc:language>en-US</dc:language>
  <cp:lastModifiedBy>LEGION2</cp:lastModifiedBy>
  <dcterms:modified xsi:type="dcterms:W3CDTF">2016-01-12T13:34:01Z</dcterms:modified>
  <cp:revision>6</cp:revision>
  <dc:subject/>
  <dc:title>Absorption of Light by Chlorophyll</dc:title>
</cp:coreProperties>
</file>